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F06-24FD-49C8-8753-07DE29D1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1B5-7CA5-491F-A30B-B15FDF01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DCD-9D0C-4FBD-B686-3850736D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F22-AA34-4C67-BEAF-E62FCE28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D2A-5514-4F6D-8184-18FCDC82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508-117E-42D7-92CF-5A90F8B1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BE4-96C5-4697-9EC3-A082B432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8E4-93FE-4F7B-A9D4-5C24F136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0DA-FB34-4766-9D12-329D0824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F98-8452-4853-B996-7C56F8B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CFC-E64C-4665-AA48-5859D027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859-1CFB-408D-B1D8-887146E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2E24-1CE5-45D7-AE98-8ECEC034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’addition et la sou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3224160"/>
            <a:ext cx="2895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’add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a réponse d’une addition est </a:t>
            </a:r>
            <a:r>
              <a:rPr b="0" i="1" lang="fr-CA" sz="3200" spc="-1" strike="noStrike" u="sng">
                <a:solidFill>
                  <a:srgbClr val="000000"/>
                </a:solidFill>
                <a:uFillTx/>
                <a:latin typeface="Arial"/>
              </a:rPr>
              <a:t>la somm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fr-CA" sz="1400" spc="-1" strike="noStrike">
                <a:solidFill>
                  <a:srgbClr val="000000"/>
                </a:solidFill>
                <a:latin typeface="Arial"/>
              </a:rPr>
              <a:t>(1)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Addition:     5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+ 3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4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3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6960" y="2666880"/>
            <a:ext cx="22622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sou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soustraction est </a:t>
            </a:r>
            <a:r>
              <a:rPr b="0" i="1" lang="fr-CA" sz="36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fr-C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CA" sz="3600" spc="-1" strike="noStrike">
                <a:solidFill>
                  <a:srgbClr val="000000"/>
                </a:solidFill>
                <a:latin typeface="Comic Sans MS"/>
              </a:rPr>
              <a:t>différence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1" lang="fr-CA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Soustrac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1" lang="fr-CA" sz="1400" spc="-1" strike="noStrike">
                <a:solidFill>
                  <a:srgbClr val="000000"/>
                </a:solidFill>
                <a:latin typeface="Comic Sans MS"/>
              </a:rPr>
              <a:t>(2)(12)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3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-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fr-CA" sz="4000" spc="-1" strike="noStrike">
                <a:solidFill>
                  <a:srgbClr val="000000"/>
                </a:solidFill>
                <a:latin typeface="Comic Sans MS"/>
              </a:rPr>
              <a:t>1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1806840" cy="181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51055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73392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73392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4:33:10Z</dcterms:created>
  <dc:creator>nbdoe</dc:creator>
  <dc:description/>
  <dc:language>en-US</dc:language>
  <cp:lastModifiedBy>nbdoe</cp:lastModifiedBy>
  <dcterms:modified xsi:type="dcterms:W3CDTF">2008-09-22T00:49:01Z</dcterms:modified>
  <cp:revision>5</cp:revision>
  <dc:subject/>
  <dc:title>L’addition et la soustraction</dc:title>
</cp:coreProperties>
</file>